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D01-6CF9-45B8-B31F-2FC48B29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0DD-40E1-4971-B41B-6D559B92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7EF-9DD5-43A0-BCE8-40987864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598-CB80-4596-8C85-10074485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413F-7D6F-4829-AAED-20A182EB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5B02-B37B-4579-B86E-FC6FCDD9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580F-6C5E-4AD7-9638-A8E65197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C3EB-1F06-4210-AEDC-0954DD86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8CF0-200D-4ACA-B23B-3AE4FC42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F3B7-64AE-48F7-8C72-1126E975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634B-09C5-4819-B45F-230AF79D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D6E-6595-42EB-994E-0F5B3337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408B-D9E6-4FBF-AF86-AD3651E4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29D0-4622-4D21-B0CB-FF49B494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A278-A287-4BEC-BE7A-F84C57DA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1BEC-9C96-4F68-800A-17563157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504B-3754-49EB-B720-2580EFC0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6D3-1180-4821-AC5D-EFB87944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43F-8190-440C-B212-7C6F7F26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5A8-E310-4F4A-BAEA-934CFFB9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D3F-9686-4510-827A-E488D822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5CE-9BBC-493B-BF5E-45DD8027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689-1D2C-4F83-A3A0-DAF7525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D98-F995-4F55-81F0-93DCB21E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FF34-E28C-4AAB-AECE-E1E86438A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026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1027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1028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029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30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031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32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033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34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035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36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37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038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039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040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041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42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43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44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45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46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047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048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049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050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051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052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053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54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55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056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057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058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059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60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061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062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063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064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65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066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067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068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069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070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071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072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073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074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075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076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077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078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079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080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081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082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083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084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085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086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87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1088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89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090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97E5-4333-4C59-9D57-09C66DC6D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07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762120" y="6172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Working In U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ndard Parachute Compan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316480" y="2209680"/>
            <a:ext cx="382752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ti they manufactured parachutes until after the w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44863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828440" y="2590920"/>
            <a:ext cx="4437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 was part of the war effort more than most states. These facilities brought jobs to Utahans as well as PROSPE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y Utah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was inland, from the coasts so sa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had open spaces fo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had a good transpor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is rich in 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had a well-educated labor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already had defense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avajo Code-talker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ed a secret till 19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he Navajo language to pas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ode the Japanese couldn’t 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Ws in UTAH!!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and Italian POWs were sent to O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in camp they constructed, repaired building, worked in warehouses, prepared food in kitchens, farmed, built ski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gden Arsenal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0866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343040" y="609120"/>
            <a:ext cx="44370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as a reserve de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the war it turned into a factory of war ar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mb casings and black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17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-228960"/>
            <a:ext cx="767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ill Air Force Ba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914400" y="841320"/>
            <a:ext cx="76201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020840" y="380880"/>
            <a:ext cx="44370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a manufacturing and storage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Corps sent damaged, broken, or defective airplanes to be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3809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447560" y="4648320"/>
            <a:ext cx="647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a garrison- air corps came to protect and train for new jobs- SPECIFICALLY PI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7090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orage Facil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723920" y="1676160"/>
            <a:ext cx="37515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bombs and ammun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Lake City, Ogden, Clearfield, and Too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28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endover  Air Force Ba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629040" y="2666880"/>
            <a:ext cx="19810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ed the pilots who dropped the 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57200" y="1727280"/>
            <a:ext cx="57657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67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ugway Proving Ground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d Deseret Chemical Depo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d chemical warfar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170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04:26:18Z</dcterms:created>
  <dc:creator>PSD</dc:creator>
  <dc:description/>
  <dc:language>en-US</dc:language>
  <cp:lastModifiedBy>InstructorCF</cp:lastModifiedBy>
  <cp:lastPrinted>2008-01-31T18:20:55Z</cp:lastPrinted>
  <dcterms:modified xsi:type="dcterms:W3CDTF">2009-04-29T16:11:08Z</dcterms:modified>
  <cp:revision>4</cp:revision>
  <dc:subject/>
  <dc:title>PowerPoint Presentation</dc:title>
</cp:coreProperties>
</file>